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wmf" ContentType="image/x-wmf"/>
  <Override PartName="/ppt/media/image4.gif" ContentType="image/gif"/>
  <Override PartName="/ppt/media/image6.jpeg" ContentType="image/jpeg"/>
  <Override PartName="/ppt/media/image5.gif" ContentType="image/gif"/>
  <Override PartName="/ppt/media/image9.png" ContentType="image/png"/>
  <Override PartName="/ppt/media/image7.gif" ContentType="image/gif"/>
  <Override PartName="/ppt/media/image8.gif" ContentType="image/gif"/>
  <Override PartName="/ppt/media/image10.jpeg" ContentType="image/jpeg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EF8A-AFC7-4235-9EBE-D69FC05A5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1898-4A23-4D13-981F-27DC8C89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817F-7206-4A34-8207-3BA585B1B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C65E-9C4E-4F02-99D1-751900C8B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C58F-7C49-4BC4-B6F2-083C506A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152D-1278-4F30-A5FE-A940ABC6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620D-C1E4-4B44-954C-BF2BA4C60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C3C2F-F60B-440C-A6D6-C5EA1A85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895E-3ED3-48A9-BA81-FA180825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84AB-8FCF-44D8-8208-F03139D54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9EC5-DDD3-454B-A4D0-8C171318F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F616-F961-4D91-AE5C-B63255FF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A27C-92C2-47E7-9E2A-28D3386E7A3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96800" y="836280"/>
            <a:ext cx="587844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i="1" lang="es-MX" sz="3200" spc="-1" strike="noStrike">
                <a:solidFill>
                  <a:srgbClr val="000000"/>
                </a:solidFill>
                <a:latin typeface="Arial"/>
              </a:rPr>
              <a:t>proceso de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s-MX" sz="3200" spc="-1" strike="noStrike">
                <a:solidFill>
                  <a:srgbClr val="000000"/>
                </a:solidFill>
                <a:latin typeface="Arial"/>
              </a:rPr>
              <a:t>comunicación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mo ayuda en la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solución de conflic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59280" y="324648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: Jaime G. Sánchez Carrillo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55640" y="6021360"/>
            <a:ext cx="352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Asesor académico en la Unidad UPN 099 DF Poni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286000" y="4221000"/>
            <a:ext cx="4572000" cy="922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C592-FF04-491E-BD27-C0856B0065C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6200" y="333360"/>
            <a:ext cx="81378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 cambio: capacidad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de transformación y adaptaci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un período de intensas transiciones, la comprensión del cambio y la potencialización de la capacidad para asimilar los cambios se convierten en una necesidad inelud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 ejemplo e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la telefonía fija a la celular y/o satel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7800" y="2104920"/>
            <a:ext cx="3057480" cy="3106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F0B1-726F-49FD-A587-A278A3376850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67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gunda ruptura digit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54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ptura ocasionada por el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chazo al camb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titud en la asimilación de la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uevas Tecnologías de la comunicació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 de quienes toman las decis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ex, Fax, Pager, MP2, GSM. t. Satelital, fibra óptica, cable submarino, correo electrónico, fotografía- digital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867280" y="2371680"/>
            <a:ext cx="3097440" cy="21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6995-0B8C-4260-A294-6450A2C5425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5848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novación en la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MUNICACIÓN.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Trabajo a distancia: comunicación inalámb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95280" y="1268280"/>
            <a:ext cx="4969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ransacciones mercantiles virtu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mpras / Ventas/ a dista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Instrucciones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codificadas y encapsuladas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comprane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Transacciones financieras por Internet b2b o b2c o c2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Aparatos domésticos inteligentes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, operados a distancia (Hornos, microondas y refrigerador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rabajo en casa, comercios o restaura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tercomunicación inalámbrica en aeropuertos, centros de convenciones, restaurantes, hotel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**http%3A%2F%2Fwww.elobservadoreconomico.com%2Farchivo%2F101%2Fcompras%2520en%2520linea%25202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3622680" cy="32382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3388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**http%3A%2F%2Fwww.cadritech.com.br%2Fassets%2Fimages%2Fcarrinho-compras" descr=""/>
          <p:cNvPicPr/>
          <p:nvPr/>
        </p:nvPicPr>
        <p:blipFill>
          <a:blip r:embed="rId2"/>
          <a:stretch/>
        </p:blipFill>
        <p:spPr>
          <a:xfrm>
            <a:off x="1187280" y="5013360"/>
            <a:ext cx="2481480" cy="1557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692360" y="4046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1256-B82D-489F-BCAA-B3C387D4CE3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0920" y="231480"/>
            <a:ext cx="8497800" cy="62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889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Un día un sabio preguntó a sus discípulos lo siguient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¿Por qué la gente se grita cuando están enojados?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s alumnos pensaron y meditaron  por un momento; y respondieron….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Porque perdemos la calma - dijo uno - por eso gritamos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 Pero ¿por qué gritar cuando la otra persona está a tu lado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reguntó una vez más ¿No es posible hablarle en voz baja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-¿Por qué gritas a una persona cuando estás enojado y esta cerca de ti……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os hombres dieron algunas otras respuestas pero ninguna de ellas satisfacía al maestro.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Finalmente él explicó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-Cuando dos personas están enojadas,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us corazones se aleja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ucho: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ra cubrir esa distancia deben gritar, para poder escucha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entras más enojados estén, más fuerte tendrán que gritar para escucharse uno a otr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 través de esa gran distancia imaginaria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200"/>
            </a:br>
            <a:br>
              <a:rPr sz="8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Luego volvió y preguntó: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- ¿Qué sucede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uando dos personas se enamora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llos no se gritan sino que se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hablan suavemente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or qué?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us corazones están muy cerc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a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istancia entre ellos es muy pequeña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1400"/>
            </a:br>
            <a:br>
              <a:rPr sz="8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ntinuó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- Cuando se </a:t>
            </a: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enamora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más aún, qué sucede?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No hablan, sólo susurra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y se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vuelven aún más cerca en su amor.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Finalmente no necesitan siquiera susurrar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sólo se miran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y eso es todo. Así es; que cerca están dos personas cuando se aman. </a:t>
            </a:r>
            <a:br>
              <a:rPr sz="1400"/>
            </a:br>
            <a:br>
              <a:rPr sz="8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uego el sabio concluyó: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uando discutan no dejen que sus corazones se aleje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no digan palabras que los distancien más, llegará un día en que esa distancia sea tan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que no encontrarán más el camino de regreso.</a:t>
            </a:r>
            <a:br>
              <a:rPr sz="1400"/>
            </a:br>
            <a:br>
              <a:rPr sz="12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818F-E458-4B57-BAC0-726A1E9202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26560" y="189000"/>
            <a:ext cx="71298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300"/>
            </a:b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onclusiones 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064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La habilidad en la comunicación es la clave del éxito en la vida, para la plena realización del Ser Humano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i existiera un proceso óptimo de comunicación, entre seres y/o naciones, no habría: guerras, conflictos, pleitos, fricciones, ofensas, malentendidos, resentimientos, enojo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Se podrían minimizar las rupturas ideológicas, sociales, políticas y económica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prender a comunicarse  permite apreciar un mejor mundo y  todo lo circundante; así, la aurora de la vida empezará a parecer más brillante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en una existencia más llevadera, con el trabajo cotidiano mas fácil de ejecutar, con una familia más unida y feliz, et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ambios trascendentales suelen ocurrir en cuanto se cumple idealmente el fenómeno extraordinario de la Comunicación.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¡Es urgente intentar que las cosas funcionen mucho mejor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24360" y="5300640"/>
          <a:ext cx="208764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5300640"/>
                    <a:ext cx="208764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9662-F166-4E05-A6C3-7A54EF4182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digma de la comunicación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omunicación se entiende como el factor básico en todos los procesos biológicos, humanos, sistemas mercantiles, tecnológicos e industrializ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evolución de la vida se mueve gracias a la expansión del proceso comunicativ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3672000" cy="3273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E73AD-1BA3-4CBA-896E-F046AD70563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66280" y="124920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finición y alcance: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unicación es el intercambio de ideas, objetos, sentimientos entre dos o más   personas, para alcanzar una comprensión, logro  o f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ace llegar ideas, objetos, sentimientos, datos o información, entre dos o más terminales con un propósito definid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s la base de cualquier relación entre seres humanos, entidades, terminales y dispositivos de información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Comunicarse con los demás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, es lograr un resultado deseado o no, entre personas, familia, sociedad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8262-153C-4F11-9DC5-278809B8CD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26920" y="188640"/>
            <a:ext cx="666108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os fundamentales de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proceso comunicativo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unicación en una v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41767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-Punto causa o pun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rige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89040" y="2384280"/>
          <a:ext cx="1432080" cy="313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9040" y="2384280"/>
                    <a:ext cx="1432080" cy="313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6354720" y="2540160"/>
          <a:ext cx="1408320" cy="297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54720" y="2540160"/>
                    <a:ext cx="1408320" cy="297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5076720" y="1268280"/>
            <a:ext cx="37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- Pun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fecto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 punto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es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773360"/>
            <a:ext cx="1511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3.- Tener un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ea, sentimiento u objet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308720" y="2421000"/>
            <a:ext cx="2016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987640" y="2997360"/>
            <a:ext cx="432000" cy="2160360"/>
          </a:xfrm>
          <a:custGeom>
            <a:avLst/>
            <a:gdLst>
              <a:gd name="textAreaLeft" fmla="*/ 127080 w 432000"/>
              <a:gd name="textAreaRight" fmla="*/ 432360 w 432000"/>
              <a:gd name="textAreaTop" fmla="*/ 90000 h 2160360"/>
              <a:gd name="textAreaBottom" fmla="*/ 207036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011280" y="2637000"/>
            <a:ext cx="360360" cy="2592360"/>
          </a:xfrm>
          <a:custGeom>
            <a:avLst/>
            <a:gdLst>
              <a:gd name="textAreaLeft" fmla="*/ 105480 w 360360"/>
              <a:gd name="textAreaRight" fmla="*/ 360360 w 360360"/>
              <a:gd name="textAreaTop" fmla="*/ 108000 h 2592360"/>
              <a:gd name="textAreaBottom" fmla="*/ 248436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54400" y="5356080"/>
            <a:ext cx="1712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987640" y="1916280"/>
            <a:ext cx="35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7.- seleccionar un canal [medio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43280" y="907920"/>
            <a:ext cx="2592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132000" y="3672000"/>
            <a:ext cx="2541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No verbales [Expresiones faciales, lenguaje corporal y tono de voz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7640" y="2492280"/>
            <a:ext cx="30258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8.- Código decodificador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      [lenguaje comprensibl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3640" y="2925720"/>
            <a:ext cx="3024000" cy="1079640"/>
          </a:xfrm>
          <a:prstGeom prst="rightArrow">
            <a:avLst>
              <a:gd name="adj1" fmla="val 50000"/>
              <a:gd name="adj2" fmla="val 7002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94000" y="3141720"/>
            <a:ext cx="300672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9.- Contenido del mens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Verdana"/>
              </a:rPr>
              <a:t>[Verbal y/o  a través de símbolos y/o palabras]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0560" y="4437000"/>
            <a:ext cx="2881440" cy="792360"/>
          </a:xfrm>
          <a:prstGeom prst="leftArrow">
            <a:avLst>
              <a:gd name="adj1" fmla="val 50000"/>
              <a:gd name="adj2" fmla="val 9091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Acuse de recibo 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Verdana"/>
              </a:rPr>
              <a:t>Retroalime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16880" y="1835280"/>
            <a:ext cx="2392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10.- Duplicar la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Idea, sentimiento u objeto [interpretación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236000" y="3860640"/>
            <a:ext cx="194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1.- Emitir acuse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de recibo y/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troalimen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3573360"/>
            <a:ext cx="1512720" cy="12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5.-Interés e inten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por hac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llegar e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mensaj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5084640"/>
            <a:ext cx="1944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6.-Captar la aten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e inter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del recep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716360" y="1197000"/>
            <a:ext cx="365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79280" y="2924280"/>
            <a:ext cx="1622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4.-Localizar 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punto dest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00720" y="5445000"/>
            <a:ext cx="259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2.- Agradecer y cerrar el ciclo de comunic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B033-A76C-436B-B67E-16C9ED43C7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74280" y="189000"/>
            <a:ext cx="800100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3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Triángulo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400" spc="-1" strike="noStrike">
                <a:solidFill>
                  <a:srgbClr val="000000"/>
                </a:solidFill>
                <a:latin typeface="Arial"/>
              </a:rPr>
              <a:t>A-R-C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= Comprensión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7138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o consecuencia de aplicar la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Fórmula de la Comunicación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en la vida diaria, ocurre que la habilidad para comunicarse se incrementa, y con ello, su nivel de </a:t>
            </a: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Realidad 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Afinidad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 otras persona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Un principio es: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Una persona está bien o mal, en la medida en que puede comunicarse con los demás.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s componentes del </a:t>
            </a:r>
            <a:r>
              <a:rPr b="0" i="1" lang="en-US" sz="1700" spc="-1" strike="noStrike">
                <a:solidFill>
                  <a:srgbClr val="000000"/>
                </a:solidFill>
                <a:latin typeface="Arial"/>
              </a:rPr>
              <a:t>Triángulo </a:t>
            </a: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A - R - C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so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finida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ealidad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municació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 la medida en que se tiene mejor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municació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con una persona o con su medio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mbiente, las cosas al alrededor mejoran, además de que serán más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y mayor será su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finida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grado) y su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mprensión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u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alida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afinidad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también  intensificarán, creciendo el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triángulo de la comprens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ariamente, en la medida que disminuye la comunicación, decrecen los elementos y se reduce el tamaño del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riángulo comprensión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700360" y="2924280"/>
            <a:ext cx="1584360" cy="50472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804000" y="2565360"/>
            <a:ext cx="64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443480" y="5429160"/>
            <a:ext cx="3445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4360" y="278136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95520" y="285264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COMPREN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7F60-0C18-4922-BEAA-A23BA847739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74200" y="44280"/>
            <a:ext cx="80010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ipos de Comunicación </a:t>
            </a: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NO Verb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-252360" y="764640"/>
            <a:ext cx="792144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epresentaciones sistematizada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Símbolos, signos, colores, fotografía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ctividades culturales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información impresa:  Logos, folletos, anuncios, cartel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Alteraciones somáticas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ambios en el cuerpo como dilatación de pupilas, respiración acelerada,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oración , palidez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resiones faciales: guiños, tics, levantar o fruncir cejas, apretar los diente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ímica: uso consciente e intencional de rictus y del cuerp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osturas que evidencian estados de ánimo: emociones, sentimiento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ovimiento corporal inconsciente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abeza, tronco, extremidades o 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uerpo enter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aralenguaje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uso de onomatopeyas (imitación de sonidos), gruñido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uidos producidos por objeto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Proxémica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uso de la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istancia espac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Utilización de los sentidos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: registro visual amplío o detallado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tinción de aromas y olores; sensibilidad epidérmica: palpar, toca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ariciar; percibir sabores y degustar; advertir sonidos, rui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ariencia personal: vestimenta, adornos,  actitudes, posturas corporales, adema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es un extraordinario y  fehaciente  medio de expre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 emociones, actitudes y/o sentimientos, que suele contradecir la oratoria del exposi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227640" y="2133720"/>
          <a:ext cx="139248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27640" y="2133720"/>
                    <a:ext cx="139248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C043-C362-49B5-B171-42F61EE6F3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115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0000"/>
                </a:solidFill>
                <a:latin typeface="Arial"/>
              </a:rPr>
              <a:t>El drama del desarrollo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6048360" cy="46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espués de cada salto importante en la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Tecnología de la Comunicación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hay grupos humanos que se bifurcan del tronco común del que precedían y empiezan a desarrollar una civilización diferent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Web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B2B o C2C,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satelital e inalámbrica, fibra óptica, etc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49536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Funciones de la Publicidad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uad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rda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racterísticas de la Publicid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pertar el interés y/o la neces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sentación pública, promoción de mar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etración; campaña de inform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resión amplificada; incrementar el consu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ersonal.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legar al mercado me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084720" y="2060640"/>
            <a:ext cx="2808360" cy="282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FC40-5CB2-4CE4-844F-79C270EB6EF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18900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Ingeniería Institu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560" y="2401920"/>
            <a:ext cx="4753080" cy="21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avanzada trepidante de l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ecnología de la comunicació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ha conducido hacia la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izació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 consecuentemente, ha generado profundos cambios humanos, culturales, sociales, políticos y económico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5076720" y="2133720"/>
            <a:ext cx="3888000" cy="2712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8CC4-4AB4-40D8-85D8-E609220BF37E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43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00"/>
                </a:solidFill>
                <a:latin typeface="Arial"/>
              </a:rPr>
              <a:t>Internet  e  Intrane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Arial"/>
              </a:rPr>
              <a:t>Hoy en día conseguir información es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600" spc="-1" strike="noStrike">
                <a:solidFill>
                  <a:srgbClr val="000000"/>
                </a:solidFill>
                <a:latin typeface="Arial"/>
              </a:rPr>
              <a:t>Rápi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600" spc="-1" strike="noStrike">
                <a:solidFill>
                  <a:srgbClr val="000000"/>
                </a:solidFill>
                <a:latin typeface="Arial"/>
              </a:rPr>
              <a:t>Bara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600" spc="-1" strike="noStrike">
                <a:solidFill>
                  <a:srgbClr val="000000"/>
                </a:solidFill>
                <a:latin typeface="Arial"/>
              </a:rPr>
              <a:t>Fác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600" spc="-1" strike="noStrike">
                <a:solidFill>
                  <a:srgbClr val="000000"/>
                </a:solidFill>
                <a:latin typeface="Arial"/>
              </a:rPr>
              <a:t>Con CALID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2200" y="24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**http%3A%2F%2Fwww.hedrosystem.com.ar%2Fimages%2Fpaginas" descr=""/>
          <p:cNvPicPr/>
          <p:nvPr/>
        </p:nvPicPr>
        <p:blipFill>
          <a:blip r:embed="rId1"/>
          <a:stretch/>
        </p:blipFill>
        <p:spPr>
          <a:xfrm>
            <a:off x="4778280" y="1600200"/>
            <a:ext cx="411480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72DA-118E-453D-9E0E-13AD83C06171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30T17:45:09Z</dcterms:created>
  <dc:creator> Jaime G.Sanchez C.</dc:creator>
  <dc:description/>
  <dc:language>en-US</dc:language>
  <cp:lastModifiedBy>universidad</cp:lastModifiedBy>
  <dcterms:modified xsi:type="dcterms:W3CDTF">2009-08-19T14:56:18Z</dcterms:modified>
  <cp:revision>105</cp:revision>
  <dc:subject/>
  <dc:title>                       U.N.A.M.  Facultad de Contaduria y Administracion </dc:title>
</cp:coreProperties>
</file>